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5499B-AA98-43FC-96BA-396434F29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40BA8-7D6E-4AEA-A88D-9BF91637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258F0-CC85-4EE1-B9BB-008228B8B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2EEB2-4AE0-4B97-89F7-F080B5B9F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5BD29-D280-4BBA-B2BF-C6571DACA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BE51-10E6-4211-859D-7798EDA8C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678DC-AD4F-4312-A155-CD67806F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2E583-F43B-4ABD-9103-0A0A0414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B984-76CF-4F3F-8780-7045176AC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5AC4D-A61F-4327-9740-2808BE6A4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FDEA2-CEF3-4BEF-AC84-DE71AD197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9DC2C-27F1-4F15-B954-B50FCF18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537E9-F5B1-47B5-84AE-8DCD8DAE3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9EDC7-1BF0-45C6-B51C-33DAACF1A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EEB3E-4A0B-4C4F-9C5D-2033C43D2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A4F47-5F1D-45A7-8473-BB5E340E1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F59C7-2A82-41C3-B894-20CC17724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255A3C-C930-4483-9A7B-906F62607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94BE9-75AA-4FDB-BE05-9FA23B4AE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98D66-2A2E-4F3B-9EC5-E8AEBD487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4E1B0-D9BB-4FEC-AD0A-88E85A41D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8F636-1394-4EF9-96C4-B0163648D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3929C-F7AE-49E2-8A3F-51DC9B1B5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FA925-31F6-4185-B485-F47F7CFD7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7F23F-D35B-4413-94DA-221C0AD1D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F4D8D-9023-4283-85F7-843DD3D27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E83B8-63BC-4C00-B1C9-FC6E6798D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D359C-A3B2-401A-ACFA-E0DFE1CB40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444AEE-1D60-4FE2-A6DA-0FBB80BD3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132F80-F20E-4E65-8AFA-DF656A70A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99A78-ACCC-48F5-A688-75F87F0926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98B96-090D-4008-B18A-295313884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03260-0F32-4554-A759-1A6FB1E2E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13972-AE8E-4219-B6A1-A8D6CE22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03F0D-2E6C-41CB-9C3C-C9F933658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7B4BF-C600-483C-A9DA-3BCEFFFC2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DC452-617E-4EB2-9554-0CF7A7DF9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3EF77-6089-4923-831D-70AC1B647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294E3-0CA6-43EB-845A-CE14E2D87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173CF-6EDC-4DD7-8D86-189C0DF36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69823-5158-49D9-BD57-0CBFE1CE2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2949DA-100A-4668-9440-FF326F7374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21091-DD94-49BF-A006-3F1800D4F7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E0DD53-34BA-48A7-91E9-D9F4F05FF2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65A6B-1A15-4205-BE25-5D6F0A56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3E57FF-C364-4EA3-820C-6528994AB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FCE8D-2B81-4995-BA6A-A234EC894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B0B82-38BA-468B-9FD2-E8CD5AEF9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D8430-8A08-4575-97FC-B68BCB538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2AE6D-D9CA-46A6-81C0-3218673B0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58BDA-473A-450D-B81F-04A5F79FB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81B8D-7F0A-4C8F-B7C1-77BE86C1D9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E0C97-DDC3-4039-94DA-FEA5092CB4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2C924-2D99-4434-945A-D8BCADB4B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B22178-4D8B-4248-A442-0A900F753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5EC74-5440-403E-9EBA-DE97E8C02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A75F6A-124A-4405-BC70-1C9DB622DD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48B38E-F841-49DF-A084-898C48F7AA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2E07B1-6085-470A-B1C1-FA331E211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19D64-A9C6-42BC-B3A1-452906814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5EB6C-88DD-4A25-AB21-BA4434655B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1163E2-A4B5-43CC-BD38-2DD75D0637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EC4D4-7175-40D2-9CFD-2F7E3672AE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83D30-3CA9-49C0-B2C1-BBD28D7B3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389F7-4397-445E-8A2F-C93EA62F8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A6D0D-AA22-48EB-AE09-DD9C41D64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7449-A5D0-4337-8A6A-B6EA6D99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953C0-2AB7-4111-8F8F-2733802984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8D21F-D7FE-4DC0-9B9E-F3FF58B7A7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9375E3-52D0-4A6F-95FA-DF748EB56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EF18D-CA4F-440A-B1B3-5F76C462B6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B955F1-E53B-49A4-AD23-AB45C421B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EF1BB-BD02-4A34-9B7C-A5D72CD66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7EE88-B540-44A1-B249-A8748373CB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D6EE2-7D8A-47F6-8F78-BF3C9A6F6A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301F4-061C-4E3E-ACC8-EE2C7C9FC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4DAC1-4190-4672-9A22-CDB2445A7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9182-97FF-4B9F-A481-49BBC5311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8AAB7-4346-4A23-BF7B-3A5D84D49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67CCE-FC53-40CC-A48B-B8D1B0902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71E81-61C8-42FC-99E0-2B0BFA79A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52C66-5D04-42D2-9329-511DADD29C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FD250-F9CB-49DB-AC27-4FC7CFA9CB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522D11-1795-4CBE-A722-47F0F62AE9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165623-495B-4832-BC60-10F1F6CEFC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96683-18A7-4D56-ABEF-BE33AA0B1B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BEFE0-7829-40E0-BF53-E9F6B2914B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185A2-16D6-4DA2-BBF0-AA96E48A4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2BAF-CB17-43A2-AADF-CD03840D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4CB2C-CF5C-42D5-88C7-95DED8351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45686-BDBF-4470-A34C-744541C9A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AB7A4-AA22-4087-B9DC-43AB646AB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B5FAF-41F2-4F0E-8C81-2D465CE74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5328E-F111-4530-AF2F-7D49151241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15AFFF-59D4-4F71-9150-59D3EA45AB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0E0577-5905-4A4E-98F2-10E7E84FB22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FBCA-E72D-44D5-AAF4-B35D14E32FF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745C-7424-4A44-A508-7D0E003AE1E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0"/>
            <a:ext cx="2666880" cy="6858000"/>
            <a:chOff x="0" y="0"/>
            <a:chExt cx="2666880" cy="6858000"/>
          </a:xfrm>
        </p:grpSpPr>
        <p:sp>
          <p:nvSpPr>
            <p:cNvPr id="90"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
            <p:cNvPicPr/>
            <p:nvPr/>
          </p:nvPicPr>
          <p:blipFill>
            <a:blip r:embed="rId2"/>
            <a:stretch/>
          </p:blipFill>
          <p:spPr>
            <a:xfrm>
              <a:off x="0" y="0"/>
              <a:ext cx="2139840" cy="6858000"/>
            </a:xfrm>
            <a:prstGeom prst="rect">
              <a:avLst/>
            </a:prstGeom>
            <a:ln w="0">
              <a:noFill/>
            </a:ln>
          </p:spPr>
        </p:pic>
      </p:grpSp>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6580-0B65-4EAB-981B-798E4BB95D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62680"/>
          </a:xfrm>
          <a:prstGeom prst="rect">
            <a:avLst/>
          </a:prstGeom>
          <a:ln w="0">
            <a:noFill/>
          </a:ln>
        </p:spPr>
      </p:pic>
      <p:sp>
        <p:nvSpPr>
          <p:cNvPr id="134"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6"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8F10-4B0B-4EE5-925F-3412071EA5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7"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0F63-8139-4DA0-B6D3-1F3B6E8F7B5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9"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21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219" name="PlaceHolder 3"/>
          <p:cNvSpPr>
            <a:spLocks noGrp="1"/>
          </p:cNvSpPr>
          <p:nvPr>
            <p:ph type="ftr" idx="17"/>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22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17E9-D54C-47D3-B727-E4B8C34A0F9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2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6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62"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64"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F308-23FA-4316-9517-A6E08777873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6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
          <p:cNvGrpSpPr/>
          <p:nvPr/>
        </p:nvGrpSpPr>
        <p:grpSpPr>
          <a:xfrm>
            <a:off x="7920" y="5540400"/>
            <a:ext cx="1784520" cy="1246320"/>
            <a:chOff x="7920" y="5540400"/>
            <a:chExt cx="1784520" cy="1246320"/>
          </a:xfrm>
        </p:grpSpPr>
        <p:sp>
          <p:nvSpPr>
            <p:cNvPr id="26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7" name=""/>
            <p:cNvGrpSpPr/>
            <p:nvPr/>
          </p:nvGrpSpPr>
          <p:grpSpPr>
            <a:xfrm>
              <a:off x="7920" y="5540400"/>
              <a:ext cx="1784520" cy="1238400"/>
              <a:chOff x="7920" y="5540400"/>
              <a:chExt cx="1784520" cy="1238400"/>
            </a:xfrm>
          </p:grpSpPr>
          <p:grpSp>
            <p:nvGrpSpPr>
              <p:cNvPr id="278" name=""/>
              <p:cNvGrpSpPr/>
              <p:nvPr/>
            </p:nvGrpSpPr>
            <p:grpSpPr>
              <a:xfrm>
                <a:off x="792000" y="5654520"/>
                <a:ext cx="870120" cy="1124280"/>
                <a:chOff x="792000" y="5654520"/>
                <a:chExt cx="870120" cy="1124280"/>
              </a:xfrm>
            </p:grpSpPr>
            <p:sp>
              <p:nvSpPr>
                <p:cNvPr id="27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7920" y="5540400"/>
                <a:ext cx="1784520" cy="1076400"/>
                <a:chOff x="7920" y="5540400"/>
                <a:chExt cx="1784520" cy="1076400"/>
              </a:xfrm>
            </p:grpSpPr>
            <p:sp>
              <p:nvSpPr>
                <p:cNvPr id="28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94" name=""/>
          <p:cNvGrpSpPr/>
          <p:nvPr/>
        </p:nvGrpSpPr>
        <p:grpSpPr>
          <a:xfrm>
            <a:off x="8680320" y="2116080"/>
            <a:ext cx="385920" cy="4308480"/>
            <a:chOff x="8680320" y="2116080"/>
            <a:chExt cx="385920" cy="4308480"/>
          </a:xfrm>
        </p:grpSpPr>
        <p:sp>
          <p:nvSpPr>
            <p:cNvPr id="29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7171560" y="-87480"/>
            <a:ext cx="2427480" cy="2247120"/>
            <a:chOff x="7171560" y="-87480"/>
            <a:chExt cx="2427480" cy="2247120"/>
          </a:xfrm>
        </p:grpSpPr>
        <p:grpSp>
          <p:nvGrpSpPr>
            <p:cNvPr id="298" name=""/>
            <p:cNvGrpSpPr/>
            <p:nvPr/>
          </p:nvGrpSpPr>
          <p:grpSpPr>
            <a:xfrm>
              <a:off x="7171560" y="-87480"/>
              <a:ext cx="2427480" cy="2247120"/>
              <a:chOff x="7171560" y="-87480"/>
              <a:chExt cx="2427480" cy="2247120"/>
            </a:xfrm>
          </p:grpSpPr>
          <p:sp>
            <p:nvSpPr>
              <p:cNvPr id="29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7171560" y="-87480"/>
                <a:ext cx="2427480" cy="2247120"/>
                <a:chOff x="7171560" y="-87480"/>
                <a:chExt cx="2427480" cy="2247120"/>
              </a:xfrm>
            </p:grpSpPr>
            <p:sp>
              <p:nvSpPr>
                <p:cNvPr id="30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348"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4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50"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A26A-B182-43F2-89EE-7E4C4C8BFB2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351" name=""/>
          <p:cNvGrpSpPr/>
          <p:nvPr/>
        </p:nvGrpSpPr>
        <p:grpSpPr>
          <a:xfrm>
            <a:off x="195120" y="235080"/>
            <a:ext cx="3787920" cy="1778040"/>
            <a:chOff x="195120" y="235080"/>
            <a:chExt cx="3787920" cy="1778040"/>
          </a:xfrm>
        </p:grpSpPr>
        <p:sp>
          <p:nvSpPr>
            <p:cNvPr id="35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195120" y="235080"/>
              <a:ext cx="3787920" cy="1716120"/>
              <a:chOff x="195120" y="235080"/>
              <a:chExt cx="3787920" cy="1716120"/>
            </a:xfrm>
          </p:grpSpPr>
          <p:sp>
            <p:nvSpPr>
              <p:cNvPr id="35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1" name=""/>
          <p:cNvGrpSpPr/>
          <p:nvPr/>
        </p:nvGrpSpPr>
        <p:grpSpPr>
          <a:xfrm>
            <a:off x="7797600" y="4318560"/>
            <a:ext cx="979920" cy="1159560"/>
            <a:chOff x="7797600" y="4318560"/>
            <a:chExt cx="979920" cy="1159560"/>
          </a:xfrm>
        </p:grpSpPr>
        <p:sp>
          <p:nvSpPr>
            <p:cNvPr id="36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
            <p:cNvGrpSpPr/>
            <p:nvPr/>
          </p:nvGrpSpPr>
          <p:grpSpPr>
            <a:xfrm>
              <a:off x="7797600" y="4318560"/>
              <a:ext cx="979920" cy="1159560"/>
              <a:chOff x="7797600" y="4318560"/>
              <a:chExt cx="979920" cy="1159560"/>
            </a:xfrm>
          </p:grpSpPr>
          <p:sp>
            <p:nvSpPr>
              <p:cNvPr id="36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6.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nivel.nl/content/photo_lg_athens.jpg&amp;imgrefurl=http://www.nivel.nl/oc2/page.asp%3Fpageid%3D10116&amp;usg=__YrGornSWVC9YqbNMd2_LJ_DLphU=&amp;h=400&amp;w=599&amp;sz=75&amp;hl=en&amp;start=11&amp;um=1&amp;tbnid=G6Jag3y1BsI6VM:&amp;tbnh=90&amp;tbnw=135&amp;prev=/images%3Fq%3Dathens%26hl%3Den%26safe%3Dactive%26rls%3Dcom.microsoft:en-us%26rlz%3D1I7GPEA_en%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mI1vpK7boATG6JzbkF;_ylu=X3oDMTBrc291OXZ0BHBvcwMyOTIEc2VjA3NyBHZ0aWQD/SIG=1iqbiin7f/EXP=1258039304/**http%3A//images.search.yahoo.com/images/view%3Fback=http%253A%252F%252Fimages.search.yahoo.com%252Fsearch%252Fimages%253Fp%253Ddraconian%252Blaw%2526b%253D281%2526ni%253D20%2526vm%253Dr%2526pstart%253D1%26w=214%26h=136%26imgurl=static.flickr.com%252F3317%252F3504934210_366942f976.jpg%26rurl=http%253A%252F%252Fwww.flickr.com%252Fphotos%252F21845095%2540N06%252F3504934210%252F%26size=17k%26name=Ministro%2Bbrit%25C3%25A1ni...%26p=draconian%2Blaw%26oid=2e74c6edd6f4d11c%26fr2=%26fusr=jungledrumso...%26no=292%26tt=323%26b=281%26ni=20%26sigr=11lnkrv60%26sigi=11g2i89bg%26sigb=12mvg616s"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outhasia.oneworld.net/todaysheadlines/living-under-the-shadow-of-draconian-law/?searchterm" TargetMode="External"/><Relationship Id="rId2" Type="http://schemas.openxmlformats.org/officeDocument/2006/relationships/hyperlink" Target="http://en.wikipedia.org/wiki/Draco_(lawgiver)"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4763" r="0" b="11917"/>
          <a:stretch/>
        </p:blipFill>
        <p:spPr>
          <a:xfrm>
            <a:off x="6705720" y="152280"/>
            <a:ext cx="2438280" cy="2438640"/>
          </a:xfrm>
          <a:prstGeom prst="rect">
            <a:avLst/>
          </a:prstGeom>
          <a:ln w="0">
            <a:noFill/>
          </a:ln>
        </p:spPr>
      </p:pic>
      <p:sp>
        <p:nvSpPr>
          <p:cNvPr id="411" name="PlaceHolder 1"/>
          <p:cNvSpPr>
            <a:spLocks noGrp="1"/>
          </p:cNvSpPr>
          <p:nvPr>
            <p:ph type="title"/>
          </p:nvPr>
        </p:nvSpPr>
        <p:spPr>
          <a:xfrm>
            <a:off x="685800" y="761760"/>
            <a:ext cx="7772400" cy="2127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Draconian Law</a:t>
            </a:r>
            <a:endParaRPr b="0" lang="en-US" sz="4400" spc="-1" strike="noStrike">
              <a:solidFill>
                <a:srgbClr val="ff0000"/>
              </a:solidFill>
              <a:latin typeface="Comic Sans MS"/>
            </a:endParaRPr>
          </a:p>
        </p:txBody>
      </p:sp>
      <p:sp>
        <p:nvSpPr>
          <p:cNvPr id="412" name="PlaceHolder 2"/>
          <p:cNvSpPr>
            <a:spLocks noGrp="1"/>
          </p:cNvSpPr>
          <p:nvPr>
            <p:ph type="subTitle"/>
          </p:nvPr>
        </p:nvSpPr>
        <p:spPr>
          <a:xfrm>
            <a:off x="1447920" y="3200400"/>
            <a:ext cx="6400800" cy="2209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Breanna Payne, Laura Ellis &amp; Jeffrey Scrogum </a:t>
            </a:r>
            <a:endParaRPr b="0" lang="en-US" sz="2800" spc="-1" strike="noStrike">
              <a:solidFill>
                <a:srgbClr val="000000"/>
              </a:solidFill>
              <a:latin typeface="Comic Sans MS"/>
            </a:endParaRPr>
          </a:p>
        </p:txBody>
      </p:sp>
      <p:pic>
        <p:nvPicPr>
          <p:cNvPr id="413" name="" descr=""/>
          <p:cNvPicPr/>
          <p:nvPr/>
        </p:nvPicPr>
        <p:blipFill>
          <a:blip r:embed="rId2"/>
          <a:stretch/>
        </p:blipFill>
        <p:spPr>
          <a:xfrm>
            <a:off x="533520" y="4114800"/>
            <a:ext cx="809604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3"/>
                                        </p:tgtEl>
                                        <p:attrNameLst>
                                          <p:attrName>style.visibility</p:attrName>
                                        </p:attrNameLst>
                                      </p:cBhvr>
                                      <p:to>
                                        <p:strVal val="visible"/>
                                      </p:to>
                                    </p:set>
                                    <p:animEffect filter="box(in)" transition="in">
                                      <p:cBhvr additive="repl">
                                        <p:cTn id="7" dur="500"/>
                                        <p:tgtEl>
                                          <p:spTgt spid="4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4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a:hlinkClick r:id="rId1"/>
          </p:cNvPr>
          <p:cNvPicPr/>
          <p:nvPr/>
        </p:nvPicPr>
        <p:blipFill>
          <a:blip r:embed="rId2"/>
          <a:stretch/>
        </p:blipFill>
        <p:spPr>
          <a:xfrm>
            <a:off x="0" y="0"/>
            <a:ext cx="9144000" cy="6858000"/>
          </a:xfrm>
          <a:prstGeom prst="rect">
            <a:avLst/>
          </a:prstGeom>
          <a:ln w="0">
            <a:noFill/>
          </a:ln>
        </p:spPr>
      </p:pic>
      <p:sp>
        <p:nvSpPr>
          <p:cNvPr id="41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is Draconian Law?</a:t>
            </a:r>
            <a:endParaRPr b="0" lang="en-US" sz="4400" spc="-1" strike="noStrike">
              <a:solidFill>
                <a:srgbClr val="999900"/>
              </a:solidFill>
              <a:latin typeface="Garamond"/>
            </a:endParaRPr>
          </a:p>
        </p:txBody>
      </p:sp>
      <p:sp>
        <p:nvSpPr>
          <p:cNvPr id="416" name="PlaceHolder 2"/>
          <p:cNvSpPr>
            <a:spLocks noGrp="1"/>
          </p:cNvSpPr>
          <p:nvPr>
            <p:ph/>
          </p:nvPr>
        </p:nvSpPr>
        <p:spPr>
          <a:xfrm>
            <a:off x="457200" y="1447920"/>
            <a:ext cx="8229600" cy="5029200"/>
          </a:xfrm>
          <a:prstGeom prst="rect">
            <a:avLst/>
          </a:prstGeom>
          <a:gradFill rotWithShape="0">
            <a:gsLst>
              <a:gs pos="0">
                <a:srgbClr val="ff9900">
                  <a:alpha val="29019"/>
                </a:srgbClr>
              </a:gs>
              <a:gs pos="100000">
                <a:srgbClr val="fec774"/>
              </a:gs>
            </a:gsLst>
            <a:lin ang="5400000"/>
          </a:gradFill>
          <a:ln w="0">
            <a:noFill/>
          </a:ln>
        </p:spPr>
        <p:txBody>
          <a:bodyPr lIns="90000" rIns="90000" tIns="46800" bIns="46800" anchor="t">
            <a:normAutofit/>
          </a:bodyPr>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Draco was the first legislator of ancient Athens, around 622 B.C.E.</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Draconian Law said that the punishment for almost every single crime was death.</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Verdana"/>
              </a:rPr>
              <a:t>When questioned on his cruelty, he said that he considered these lesser crimes to deserve it, and he had no greater punishment for more important on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raconian Law was made because nobles were changing the punishments for each crime based on what they considered correct. After Draco made them, the codified laws were posted for everyone to see. The punishment for almost every offense was death. From stealing to homicide, he believed they almost always deserved death.</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14"/>
                                        </p:tgtEl>
                                        <p:attrNameLst>
                                          <p:attrName>style.visibility</p:attrName>
                                        </p:attrNameLst>
                                      </p:cBhvr>
                                      <p:to>
                                        <p:strVal val="visible"/>
                                      </p:to>
                                    </p:set>
                                    <p:animEffect filter="strips(downLeft)" transition="in">
                                      <p:cBhvr additive="repl">
                                        <p:cTn id="18" dur="500"/>
                                        <p:tgtEl>
                                          <p:spTgt spid="41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4" presetSubtype="2">
                                  <p:stCondLst>
                                    <p:cond delay="0"/>
                                  </p:stCondLst>
                                  <p:childTnLst>
                                    <p:anim calcmode="lin" valueType="num" to="1.5">
                                      <p:cBhvr additive="repl">
                                        <p:cTn id="22" dur="2000" fill="hold"/>
                                        <p:tgtEl>
                                          <p:spTgt spid="41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685800" y="304920"/>
            <a:ext cx="7229520" cy="6546600"/>
          </a:xfrm>
          <a:prstGeom prst="rect">
            <a:avLst/>
          </a:prstGeom>
          <a:ln w="0">
            <a:noFill/>
          </a:ln>
        </p:spPr>
      </p:pic>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hy Is Draconian Law Bad?</a:t>
            </a:r>
            <a:endParaRPr b="0" lang="en-US" sz="4400" spc="-1" strike="noStrike">
              <a:solidFill>
                <a:srgbClr val="999900"/>
              </a:solidFill>
              <a:latin typeface="Garamond"/>
            </a:endParaRPr>
          </a:p>
        </p:txBody>
      </p:sp>
      <p:sp>
        <p:nvSpPr>
          <p:cNvPr id="41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t orders people to be kille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punishment for almost every offense was death.</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laws were written in “blood” for everyone to se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cally Draconian Law was made by Draco, an ancient Greek legislator, who wrote a set of laws (“in blood”) that were posted for everyone to see. The punishment for almost every offense was death. From stealing to homicide, he believed they almost always deserved deat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mph" presetID="6">
                                  <p:stCondLst>
                                    <p:cond delay="0"/>
                                  </p:stCondLst>
                                  <p:childTnLst>
                                    <p:animScale>
                                      <p:cBhvr>
                                        <p:cTn id="28" dur="2000" fill="hold"/>
                                        <p:tgtEl>
                                          <p:spTgt spid="4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s of Draconian Law</a:t>
            </a:r>
            <a:endParaRPr b="0" lang="en-US" sz="4200" spc="-1" strike="noStrike">
              <a:solidFill>
                <a:srgbClr val="006633"/>
              </a:solidFill>
              <a:latin typeface="Garamond"/>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tealing an apple from an orchard would result in death.</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y debtor whose status was lower than that of his creditor was forced into slavery. </a:t>
            </a:r>
            <a:endParaRPr b="0" lang="en-US" sz="3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death penalty was the punishment for even minor offense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Arial"/>
              </a:rPr>
              <a:t>Draconian Law Now</a:t>
            </a:r>
            <a:endParaRPr b="0" lang="en-US" sz="3600" spc="-1" strike="noStrike">
              <a:solidFill>
                <a:srgbClr val="8c0039"/>
              </a:solidFill>
              <a:latin typeface="Arial"/>
            </a:endParaRPr>
          </a:p>
        </p:txBody>
      </p:sp>
      <p:sp>
        <p:nvSpPr>
          <p:cNvPr id="423" name="PlaceHolder 2"/>
          <p:cNvSpPr>
            <a:spLocks noGrp="1"/>
          </p:cNvSpPr>
          <p:nvPr>
            <p:ph/>
          </p:nvPr>
        </p:nvSpPr>
        <p:spPr>
          <a:xfrm>
            <a:off x="2438280" y="1600200"/>
            <a:ext cx="6400800" cy="4495680"/>
          </a:xfrm>
          <a:prstGeom prst="rect">
            <a:avLst/>
          </a:prstGeom>
          <a:gradFill rotWithShape="0">
            <a:gsLst>
              <a:gs pos="0">
                <a:srgbClr val="ff3399"/>
              </a:gs>
              <a:gs pos="50000">
                <a:srgbClr val="751746"/>
              </a:gs>
              <a:gs pos="100000">
                <a:srgbClr val="ff3399"/>
              </a:gs>
            </a:gsLst>
            <a:lin ang="13500000"/>
          </a:gradFill>
          <a:ln w="9360">
            <a:solidFill>
              <a:srgbClr val="000000"/>
            </a:solidFill>
            <a:miter/>
          </a:ln>
        </p:spPr>
        <p:txBody>
          <a:bodyPr lIns="90000" rIns="90000" tIns="46800" bIns="46800"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the article “Living Under the Shadow of Draconian Law”, this strict form of discipline is still used today.</a:t>
            </a:r>
            <a:endParaRPr b="0" lang="en-US" sz="2400" spc="-1" strike="noStrike">
              <a:solidFill>
                <a:srgbClr val="000000"/>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ights activists say that militants have carried out torture, killings, indiscriminately used bombs and land mines, engaged in forced recruitment, and conducted widespread extor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the same time, the Indian government has failed to curb abuses by its own security forces, and extrajudicial executions and torture of detainees, particularly suspected militants and their supporters, remains comm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Go to fullsize image">
            <a:hlinkClick r:id="rId1"/>
          </p:cNvPr>
          <p:cNvPicPr/>
          <p:nvPr/>
        </p:nvPicPr>
        <p:blipFill>
          <a:blip r:embed="rId2">
            <a:lum bright="16000"/>
          </a:blip>
          <a:stretch/>
        </p:blipFill>
        <p:spPr>
          <a:xfrm>
            <a:off x="0" y="0"/>
            <a:ext cx="9144000" cy="6858000"/>
          </a:xfrm>
          <a:prstGeom prst="rect">
            <a:avLst/>
          </a:prstGeom>
          <a:ln w="0">
            <a:noFill/>
          </a:ln>
        </p:spPr>
      </p:pic>
      <p:sp>
        <p:nvSpPr>
          <p:cNvPr id="425" name="PlaceHolder 1"/>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unishments are strict and way too harsh for the petty crimes that were committ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Killing family members effects the whole family. For instance, killing a father could leave a family homeless and starving.</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ople don’t deserve to be killed.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They try to make people fear them. Making people fear you puts them in a constant state of panic or worry.</a:t>
            </a:r>
            <a:endParaRPr b="0" lang="en-US" sz="2800" spc="-1" strike="noStrike">
              <a:solidFill>
                <a:srgbClr val="000000"/>
              </a:solidFill>
              <a:latin typeface="Verdana"/>
            </a:endParaRPr>
          </a:p>
        </p:txBody>
      </p:sp>
      <p:sp>
        <p:nvSpPr>
          <p:cNvPr id="426" name=""/>
          <p:cNvSpPr txBox="1"/>
          <p:nvPr/>
        </p:nvSpPr>
        <p:spPr>
          <a:xfrm>
            <a:off x="762120" y="228600"/>
            <a:ext cx="7467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e're against Draconian Law becau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2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Garamond"/>
              </a:rPr>
              <a:t>References</a:t>
            </a:r>
            <a:endParaRPr b="0" lang="en-US" sz="4400" spc="-1" strike="noStrike">
              <a:solidFill>
                <a:srgbClr val="999900"/>
              </a:solidFill>
              <a:latin typeface="Garamond"/>
            </a:endParaRPr>
          </a:p>
        </p:txBody>
      </p:sp>
      <p:sp>
        <p:nvSpPr>
          <p:cNvPr id="43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Verdana"/>
                <a:hlinkClick r:id="rId1"/>
              </a:rPr>
              <a:t>http://southasia.oneworld.net/todaysheadlines/living-under-the-shadow-of-draconian-law/?searchterm</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Verdana"/>
                <a:hlinkClick r:id="rId2"/>
              </a:rPr>
              <a:t>http://en.wikipedia.org/wiki/Draco_(lawgiver)</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ttp://www.publicbookshelf.com/public_html</a:t>
            </a:r>
            <a:br>
              <a:rPr sz="2400"/>
            </a:br>
            <a:r>
              <a:rPr b="0" lang="en-US" sz="2400" spc="-1" strike="noStrike">
                <a:solidFill>
                  <a:srgbClr val="0000ff"/>
                </a:solidFill>
                <a:latin typeface="Verdana"/>
              </a:rPr>
              <a:t>/The_Story_of_the_Greatest_Nations_and_the_Worlds</a:t>
            </a:r>
            <a:br>
              <a:rPr sz="2400"/>
            </a:br>
            <a:r>
              <a:rPr b="0" lang="en-US" sz="2400" spc="-1" strike="noStrike">
                <a:solidFill>
                  <a:srgbClr val="0000ff"/>
                </a:solidFill>
                <a:latin typeface="Verdana"/>
              </a:rPr>
              <a:t>_Famous_Events_Vol_1/whatisd_bei.htm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Verdana"/>
              </a:rPr>
              <a:t>http://images.google.com/imghp?hl=en&amp;tab=w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0:55Z</dcterms:created>
  <dc:creator>ECPS-User</dc:creator>
  <dc:description/>
  <dc:language>en-US</dc:language>
  <cp:lastModifiedBy>ECPS-User</cp:lastModifiedBy>
  <dcterms:modified xsi:type="dcterms:W3CDTF">2009-11-11T15:51:26Z</dcterms:modified>
  <cp:revision>10</cp:revision>
  <dc:subject/>
  <dc:title>Draconian Law</dc:title>
</cp:coreProperties>
</file>